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90204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39960" y="750600"/>
            <a:ext cx="5006880" cy="3755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902040" y="95151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B0B7F1-E27E-4B17-B527-C3E75E95C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8C76C8-7C0F-464E-8DE7-31A77E4D8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7EF8-CDCB-4158-8536-6331EC5DB0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49F9-2F73-4FF8-AE8F-3A42B899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09B0-C45A-4C8C-A080-147ABC25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DC2C-5130-4814-94E1-411AD5E62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7A2D-4ECE-4750-A964-8F2C689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8E8F-AC7F-41E8-9DDC-D5307E6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63EC-9DAC-4331-BFF8-7D8D5FCD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C9EF-5A65-4760-BCF3-3C0193F8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F90A-867D-4DD9-9138-A81830E2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22EE-48CA-496D-AF8B-2E6162D6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64E3-D152-4BE1-B6DF-6BF0EDD4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4D86-989D-4C4E-9D9A-2AE0E176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9A4CEF-2C9E-49CF-BC60-C7C126CEA9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080" y="260280"/>
            <a:ext cx="2160360" cy="2881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60280"/>
            <a:ext cx="2160720" cy="2881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60280"/>
            <a:ext cx="2160720" cy="2881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6937200" y="260280"/>
            <a:ext cx="2160720" cy="2881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73080" y="3573360"/>
            <a:ext cx="2160360" cy="201636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3080" y="5732640"/>
            <a:ext cx="2160360" cy="865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3573360"/>
            <a:ext cx="2160720" cy="201636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5732640"/>
            <a:ext cx="2160720" cy="865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3573360"/>
            <a:ext cx="2160720" cy="201636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5732640"/>
            <a:ext cx="2160720" cy="865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3573360"/>
            <a:ext cx="2160720" cy="201636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5732640"/>
            <a:ext cx="2160720" cy="865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20826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8000" y="3860640"/>
            <a:ext cx="208260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8065" t="0" r="7095" b="0"/>
          <a:stretch/>
        </p:blipFill>
        <p:spPr>
          <a:xfrm>
            <a:off x="2511360" y="582480"/>
            <a:ext cx="179856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8065" t="0" r="7095" b="0"/>
          <a:stretch/>
        </p:blipFill>
        <p:spPr>
          <a:xfrm>
            <a:off x="2484360" y="3860640"/>
            <a:ext cx="1798560" cy="1584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729320" y="390600"/>
            <a:ext cx="1971360" cy="19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rcRect l="0" t="6958" r="0" b="14613"/>
          <a:stretch/>
        </p:blipFill>
        <p:spPr>
          <a:xfrm>
            <a:off x="4716360" y="3755880"/>
            <a:ext cx="1970280" cy="154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rcRect l="12859" t="14580" r="0" b="6051"/>
          <a:stretch/>
        </p:blipFill>
        <p:spPr>
          <a:xfrm>
            <a:off x="7159680" y="549360"/>
            <a:ext cx="1660320" cy="1512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rcRect l="12859" t="14580" r="0" b="6051"/>
          <a:stretch/>
        </p:blipFill>
        <p:spPr>
          <a:xfrm>
            <a:off x="7164360" y="3787920"/>
            <a:ext cx="1660680" cy="151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242100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l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587844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l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877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2421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421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sl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58784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sl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6948360" y="5877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šimpan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2421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šimpan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9T22:21:03Z</dcterms:created>
  <dc:creator>acer</dc:creator>
  <dc:description/>
  <dc:language>en-US</dc:language>
  <cp:lastModifiedBy/>
  <cp:lastPrinted>2019-05-07T07:57:12Z</cp:lastPrinted>
  <dcterms:modified xsi:type="dcterms:W3CDTF">2019-05-07T07:59:46Z</dcterms:modified>
  <cp:revision>5</cp:revision>
  <dc:subject/>
  <dc:title>Prezentace aplikace PowerPoint</dc:title>
</cp:coreProperties>
</file>